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222F-86AD-4384-9747-4795AE5C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85F0-C6E0-43C5-BEF3-3FD6050F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80E8-F1F6-4EA7-8922-9F5FA3ED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8BBB-019C-4D0F-86B2-02359528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28C3-1343-49AD-A659-AFE352E0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1553-448D-4A63-B2A5-E98FDFC9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794A-6AD0-418D-9824-0057A483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9957-7A60-4878-AE0C-C86DBA4B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E152-34F3-403A-84F7-7997A51E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C2BE-422D-47D0-8BD4-6233E129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B47E-3550-4CB6-9DC8-21886635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E14A-491E-4C07-99FB-50191902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BECA-1EED-4DAA-B004-D0871FAA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7436-2EAF-4609-A06D-4CFD4622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FF92-C7CD-47BB-B119-09B7ABAE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A360-4AB5-4A74-98D0-9F48AB9F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5AFE-ABA9-4A59-9CA4-7213FF04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B8FD-B47A-4091-9AFD-844680FB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7755-9A08-4D8C-9D7E-ABF6B842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C7F3-BDEC-47A3-B3D4-2F3EADFE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E7C1-51FD-4694-9D86-1D903DD4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25E0-E60B-47D1-A75B-07EE737B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8E2-8F81-4323-A456-5E6290AD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ECB8-AC54-48DF-82A5-DE732846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D28B-06A6-4127-9BFA-BB338845BD50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544A-8688-499C-9A52-3FEC211DE02C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o.wikipedia.org/wiki/Bilde:Maquina_vapor_Watt_ETSIIM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0/Steam_engine_in_action.gif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DEN INDUSTRIELLE REVOLU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FORUTSET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folkningsvekst på 1700- og 18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hov for større mat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jordbruket førte til større avkas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ene i landbruket  nødvendig for   byvek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Iron-forge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stahlofen"/>
          <p:cNvPicPr/>
          <p:nvPr/>
        </p:nvPicPr>
        <p:blipFill>
          <a:blip r:embed="rId1"/>
          <a:stretch/>
        </p:blipFill>
        <p:spPr>
          <a:xfrm>
            <a:off x="1946160" y="0"/>
            <a:ext cx="525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KONSEKVEN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Overbefolkede b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Miljøproble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Dårlige hygieniske forh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arde og lange arbeidsdag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Barnearbeid var vanl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rbeidsmarkedet var sterkt kjønnsde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vinnene tjente omtrent halvparten av det mennene tj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åndverkere mister sin næ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levekår for folk fl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t leve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lasseforskje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onomisk og materiell kløft mellom de vestlige landene og andre verdensdel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barn_gruver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gruve_barn"/>
          <p:cNvPicPr/>
          <p:nvPr/>
        </p:nvPicPr>
        <p:blipFill>
          <a:blip r:embed="rId1"/>
          <a:stretch/>
        </p:blipFill>
        <p:spPr>
          <a:xfrm>
            <a:off x="495360" y="20520"/>
            <a:ext cx="815328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arbeit-kinder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LudditesSmashingLoomLarge"/>
          <p:cNvPicPr/>
          <p:nvPr/>
        </p:nvPicPr>
        <p:blipFill>
          <a:blip r:embed="rId1"/>
          <a:stretch/>
        </p:blipFill>
        <p:spPr>
          <a:xfrm>
            <a:off x="1547640" y="1135080"/>
            <a:ext cx="6120000" cy="57229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Calibri"/>
              </a:rPr>
              <a:t>MASKINSTORMERE PÅ BEGYNNELSEN AV 1800-TALL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746100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REAKSJO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osialistiske bevege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rav om regulering av arbeidsforh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DEFINI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dustrialisering: Gå over fra manuelt arbeid til maskinelt arbe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spinningjenny2a"/>
          <p:cNvPicPr/>
          <p:nvPr/>
        </p:nvPicPr>
        <p:blipFill>
          <a:blip r:embed="rId1"/>
          <a:stretch/>
        </p:blipFill>
        <p:spPr>
          <a:xfrm>
            <a:off x="4716360" y="3357720"/>
            <a:ext cx="3600720" cy="2925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180px-Marianne_Stokes_St_Elizabeth_of_Hungary_Spinning_for_the_Poor"/>
          <p:cNvPicPr/>
          <p:nvPr/>
        </p:nvPicPr>
        <p:blipFill>
          <a:blip r:embed="rId2"/>
          <a:stretch/>
        </p:blipFill>
        <p:spPr>
          <a:xfrm>
            <a:off x="1332000" y="2997360"/>
            <a:ext cx="205740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IDEOLOG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dam Smith (1723 – 1790): Fri konkurranse, Kapitalismens far (1723 – 17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arl Marx (1818 – 1883), kommunism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adam_smith2.jpg"/>
          <p:cNvPicPr/>
          <p:nvPr/>
        </p:nvPicPr>
        <p:blipFill>
          <a:blip r:embed="rId2"/>
          <a:stretch/>
        </p:blipFill>
        <p:spPr>
          <a:xfrm>
            <a:off x="4140360" y="1197000"/>
            <a:ext cx="2792160" cy="363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72km1"/>
          <p:cNvPicPr/>
          <p:nvPr/>
        </p:nvPicPr>
        <p:blipFill>
          <a:blip r:embed="rId3"/>
          <a:stretch/>
        </p:blipFill>
        <p:spPr>
          <a:xfrm>
            <a:off x="6573960" y="3500280"/>
            <a:ext cx="2570040" cy="31417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apitalsystem-2"/>
          <p:cNvPicPr/>
          <p:nvPr/>
        </p:nvPicPr>
        <p:blipFill>
          <a:blip r:embed="rId1"/>
          <a:stretch/>
        </p:blipFill>
        <p:spPr>
          <a:xfrm>
            <a:off x="2112840" y="0"/>
            <a:ext cx="55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676520" y="419040"/>
            <a:ext cx="716256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3300"/>
                </a:solidFill>
                <a:latin typeface="Lombardic Narrow"/>
              </a:rPr>
              <a:t>Stereotype of the Factory Owner</a:t>
            </a:r>
            <a:r>
              <a:rPr b="1" i="1" lang="en-US" sz="38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fatcat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24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676520" y="365040"/>
            <a:ext cx="716256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“</a:t>
            </a: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Upstairs”/“Downstairs” Lif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Capital and Labor"/>
          <p:cNvPicPr/>
          <p:nvPr/>
        </p:nvPicPr>
        <p:blipFill>
          <a:blip r:embed="rId1"/>
          <a:srcRect l="0" t="1365" r="0" b="0"/>
          <a:stretch/>
        </p:blipFill>
        <p:spPr>
          <a:xfrm>
            <a:off x="0" y="47520"/>
            <a:ext cx="9144000" cy="6764400"/>
          </a:xfrm>
          <a:prstGeom prst="rect">
            <a:avLst/>
          </a:prstGeom>
          <a:ln w="9360">
            <a:solidFill>
              <a:srgbClr val="744d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457200" y="-7776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4f81bd"/>
                </a:solidFill>
                <a:latin typeface="Calibri"/>
              </a:rPr>
              <a:t>Europa 18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1522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029" descr="Europe1815GF"/>
          <p:cNvPicPr/>
          <p:nvPr/>
        </p:nvPicPr>
        <p:blipFill>
          <a:blip r:embed="rId1"/>
          <a:stretch/>
        </p:blipFill>
        <p:spPr>
          <a:xfrm>
            <a:off x="0" y="668160"/>
            <a:ext cx="914400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430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430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evolut"/>
          <p:cNvPicPr/>
          <p:nvPr/>
        </p:nvPicPr>
        <p:blipFill>
          <a:blip r:embed="rId1"/>
          <a:stretch/>
        </p:blipFill>
        <p:spPr>
          <a:xfrm>
            <a:off x="-114480" y="2049480"/>
            <a:ext cx="93729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VIRK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produksj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 av arbeidslivet og familielivet, miljøet og forholdet mellom samfunnsklasse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kommunikasjon, mulighet for kontak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impact2"/>
          <p:cNvPicPr/>
          <p:nvPr/>
        </p:nvPicPr>
        <p:blipFill>
          <a:blip r:embed="rId1"/>
          <a:srcRect l="617" t="0" r="0" b="3033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523880" y="380880"/>
            <a:ext cx="71629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3300"/>
                </a:solidFill>
                <a:latin typeface="Lombardic Narrow"/>
              </a:rPr>
              <a:t>Steam Ship</a:t>
            </a:r>
            <a:r>
              <a:rPr b="1" lang="en-US" sz="39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T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750: Den industrielle revolusjonen begynner i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850: Industrien kommer for alvor til No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HVORFOR ENGLA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nnskap om tekstil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gen indre krigføring siden 16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Fristed for emigranter: nye impu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Gode veier og kysttrafik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delen ønsket å investere i indust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rbeids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Råva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Marked, indre og y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800" spc="-1" strike="noStrike">
                <a:solidFill>
                  <a:srgbClr val="000000"/>
                </a:solidFill>
                <a:latin typeface="Arial Unicode MS"/>
              </a:rPr>
              <a:t>OPPSTA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pinne- og vevemaskin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Dampmaskinen økte vareproduksjon og omse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ll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Watts dampmask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3973680"/>
            <a:ext cx="3065400" cy="2282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428760" y="407664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00"/>
                </a:solidFill>
                <a:latin typeface="Calibri"/>
              </a:rPr>
              <a:t>James Watts dampmaskin, 176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Bilde:Steam engine in acti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692280"/>
            <a:ext cx="8353440" cy="5435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61128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9:07:11Z</dcterms:created>
  <dc:creator>"Håvard Dahle" &lt;havardd@vfk.no&gt;</dc:creator>
  <dc:description/>
  <dc:language>en-US</dc:language>
  <cp:lastModifiedBy>Vilgunn</cp:lastModifiedBy>
  <dcterms:modified xsi:type="dcterms:W3CDTF">2010-04-10T09:34:41Z</dcterms:modified>
  <cp:revision>1</cp:revision>
  <dc:subject/>
  <dc:title>DEN INDUSTRIELLE REVOLUSJON</dc:title>
</cp:coreProperties>
</file>